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69D-0DCB-45A8-877F-D720FD76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9E8-E7C8-434E-8E0E-69431048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EE5-9628-45F8-A99F-1FB2181D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C52-72B6-4830-B548-046204C9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71D-EE55-4265-BF08-0321AED3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F17-671B-47AD-9681-14BFCECE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318-2520-49AA-9FA3-F100E663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051-A77F-4326-881C-70278720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0E9-79EB-45D0-9FEB-E758E631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48C-A279-4737-ABF6-49A13C72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318-063F-481A-96B0-349CD886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21A-FED4-44BC-BD3F-EC310852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FC57-11F2-46D4-905B-1869988BB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143000"/>
            <a:ext cx="44197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523880" y="45716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743200" y="42667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886200" y="35053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724280" y="167652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638680" y="1143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8:48:02Z</dcterms:created>
  <dc:creator>10IoannidisV</dc:creator>
  <dc:description/>
  <dc:language>en-US</dc:language>
  <cp:lastModifiedBy>10IoannidisV</cp:lastModifiedBy>
  <dcterms:modified xsi:type="dcterms:W3CDTF">2008-05-06T18:48:04Z</dcterms:modified>
  <cp:revision>1</cp:revision>
  <dc:subject/>
  <dc:title>Slide 1</dc:title>
</cp:coreProperties>
</file>